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png" ContentType="image/png"/>
  <Override PartName="/ppt/media/image29.wmf" ContentType="image/x-wmf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dt" idx="6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 type="ftr" idx="6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 type="sldNum" idx="6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F3BAB-AD3D-4A40-A55F-4E42CFA498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fondé sur une approche globale de la santé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resserré sur l’objectif et le résultat à atteind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Qui engage tous les acteurs de santé à développer davantage la transversalité entre les secteurs de la prévention, du sanitaire et du médico-social, et la coordination avec les autres politiques publ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3AE5C-7079-4491-865B-E39483B0B4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FE850-BE6B-424C-9B81-6DF459F88D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A7C02-1918-489D-9C8D-8F91DAF270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655D4-9B1C-43D8-8EAF-2FFCBBF95C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2D55D-8898-43DD-8DC2-9BF6DABC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E4FF1B-1EB2-48E1-A9E1-7B007C44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264AB2-64E7-4F3D-9933-ECE11CAF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A9D275-0DDC-44B7-974C-4DF8207E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C8E689-5D08-48EA-BAB4-F9747DAE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225AA2-9D44-4E92-977E-46A767FB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49DE31-7B12-4772-9483-7DC14D44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29696-6D8D-4CA5-855E-DD4C302F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168D1-C7C6-4282-8A64-6EFD668E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C37-EACE-4677-AFBB-1CDE82F0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BC76A-6B1C-48CB-9C6A-93AD1376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4B7A2C-B272-4B74-86E9-71D3622D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A383C4-6481-4FA7-8135-0F23537B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A39D9E-1ED9-49F9-A456-764315FF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18689B-FD36-49AF-889B-B0600DF0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CD9722-897E-42FF-82CF-4872D0BB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A66AFD-E50B-4E90-9465-AF39356A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C916A5-8A15-4FC4-A143-E03BAE1F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92CFEC-57AA-429F-94FD-CEE1AAB7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E3678B-E3A5-4197-BBE9-D71A374A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C72-A4FC-474B-8C0D-FA11DFFC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07ACD5-FB33-4EA2-9F06-19469967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3C0BE7-BF8B-48D5-AB6D-4BBFF746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4EBE21-9CB7-480F-9756-5F3BBBFB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94E571-224F-40D4-9218-B43AB848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4DB7B0-F983-415C-94D0-30C69448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56716C-61DE-470F-ADE7-D2F52155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56E62C-8434-495D-B03A-E14CAEB3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726095-5803-4747-ABF9-2CBB04CA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6ECB43-A83F-4ED5-8F5C-E9CC40BB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E69CCC-EC04-4DC5-B1A5-687DB219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BB3-2997-4448-9522-551C11BC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CD0B97-37CF-4126-B478-2267FE01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31BE8A-AC8A-49D1-BCFC-E64020EB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3F493A-60CA-49A4-8A77-419A0DC0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896931-9651-4EAE-9460-E80417BA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0AE189-15E4-410F-974B-978210BF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41943F-AC40-4ED0-82A8-11B5ED02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909C7A-E31A-42A9-A3D8-091216A0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DC091B-2524-408A-AF4D-E70AD770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E80C51-CF46-4B21-884B-FF3D67DC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2F20B0-1632-42FB-AF63-9A2E5E1F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34C4-F250-4BE8-9B19-396798E5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8E8F5B-13EE-48A4-809F-CAAC24AC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17BCCD-A25A-4307-B18D-5BFBE9C0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C4F00E-32C6-447A-B0CD-B0D78216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6513EC-5860-423C-8DCC-63E20400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94B674-2BCA-481D-BF54-71E24254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CB1E89-44C6-4D7D-91DC-EA4D9699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8424F8-8236-494A-A495-C205DA61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37BA28-3E08-4E15-A3EE-DC5F46E6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1661C1-7C46-4EFE-9677-C40D3F2A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33C4B9-A5E1-4BC1-92F4-5F4A3EDD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30D-8A13-4E55-902A-52C13875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E80DCA-33AA-49E1-91AD-5421D677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19B85A-87C9-4990-AAFD-B318EA55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16180C-0A89-4214-9F18-2FE596AA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099B6F-A8A5-47C7-9B3A-541C6147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3796E9-C19B-4A3F-BF88-91F7F8DA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09785C-E890-48DD-B19C-E9C0E32C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2D702E-2CE4-41B4-A76E-6E3367FD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E10854-D3AB-4E20-84BD-E8BF00E9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FA221F-8EA5-4583-A817-4A3340FB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EBCC00-7E14-4AE2-856B-C4F61A16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2D6-0387-4114-95CA-3454841B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A66CF1-07AA-4F05-A47D-CF196F97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BB59A1-CC1D-4255-8E88-C1262783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482474-9AA7-4768-A180-FAD3A757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2D309F-E774-4265-82C6-D0A2838F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DE3CE7-7334-4061-BD78-2CA2D8EE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4888DB-E3C3-4B17-B870-BBD6E29F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058361-0309-459C-90AE-DFB94B2C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DB38CF-CA78-4DAD-97CB-46C58BFF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B58E2C-34A2-478C-B578-6722CCDC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5E9916-A738-4EE5-A545-B108B602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49A-BFE4-4E6A-A05F-CDA7EF0D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40E9D5-C58C-4D6A-B24E-C4F3D9D5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8645A9-BEA9-4643-8B7D-9F0A9FAB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A2CC0B-AAD0-4A1D-A3EB-3158E8C8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6A8421-37DE-48E0-A93A-C75D53FB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430164-0E86-4956-8A90-0ABC75D3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4E4F60-0DB0-4D37-8B8F-00A8BF43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D25511-9198-447C-8828-5E1F5835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9F5958-7524-47F8-9709-ED423346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BB9DEE-FA2F-4B93-9EED-B7721549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301ED7-C190-4E73-92CC-CDFAFD4A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7BE-C382-4A95-88D9-5D13CCF1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103930-F6D0-47FA-BD7E-EC1C71A9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6288FF-DB12-42D6-B2BF-7D95A62F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597C68-19AC-4F16-A0CC-58527BA6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656099-1D6F-492C-8C90-69336170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3D1F85-CD73-48AA-A686-7AA8F47D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546DE6-D6C6-48A8-A3D9-A4AC60B3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C8D19A-809C-4D22-82A2-FD64320A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36B5AC-6B75-4B08-BFCE-E9B74C94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87970F-F15A-4414-8BAA-46FA352B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70823E-FE3C-406A-8644-76DAA3B6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CBC-282B-4F5B-B11A-DB943E79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3A0773-21D6-4539-98A0-B8CDC9CD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E7E7B5-49E8-483D-A838-4907BC15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F79CEA-114C-47DC-9419-53EA9E93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C5488F-3851-47B8-9F11-94CA4CD1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A1ECD9-4C98-4EB4-A431-72A50E3C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4F0BA6-5B64-483E-8FAD-0FECB22A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76FFDB-A537-4840-B493-3F059F2D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1E3477-1C9C-4A86-A8D2-31D231E6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82CD9F-F304-4271-AD06-8A3E2DFF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A5C3F0-ED78-4C1C-B5D8-F0A0B72F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16A-5833-4F5C-99D4-3F0BADF6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06A5F3-61FD-4F13-8C2E-B9877E4A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893B9C8-D2EA-4CE0-8EFA-E46CF346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6A52C0-C135-4CF5-9E48-B7872479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5B08AC-80CD-4CDD-9F27-800711DA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266D5A-7513-4E0A-9359-5D4D07A7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E7AD97-B507-4A3C-893F-89108055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3800166-C86E-4EBE-9365-5A9B39E7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D91810-6CE0-4261-ACE9-1E1E4274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F3666B-2CCF-4BC9-BAE8-8A2F66D7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B41355-337E-401D-9CF3-39FF21E0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A12-7921-4F6A-81D1-5EB7B10D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1DF4C3-5C33-4D9C-A991-F4AF2B39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FF608D-DD28-41BA-B942-DE9460C8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80BE778-262A-45BD-923D-63C4FEAC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3D4634-5F47-47FD-8751-A05E389E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293738-18AA-471F-B676-FFA152AD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0DEC76-88B0-4728-B2DF-310456D6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10DBDF-0833-41BA-80C2-E67FF967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58AF04-8FA3-4AA2-9706-EB5037D4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268873-F65F-4C39-8E1C-5F24F9BA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E830D2-876D-4BF7-A266-C3114F25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79B-7EEF-431A-8322-602CE99B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E20A91-F24A-4606-A745-66F538C1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6C569E7-01A3-423B-911C-E99C46F5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DE7D03-5D21-457B-AE3A-A0A1FD2B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6E7436-DB8C-488F-A512-BBC36A51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AD0372-2476-463E-8FB1-46DF781F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5190E5-8A13-461A-BA3B-F712A951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36575D6-4365-4529-83FD-47522E90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E3C8B7-D7D9-4928-9DCC-A639CBA7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E30C72D-D953-4438-BD3B-E911E797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35E594-FB4C-4171-9391-817190C8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3F77ED-B69B-4C2F-8113-EC435719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F4E7950-9B3B-497B-9282-C1CA21FD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B19E5C-6949-4FDE-A983-64D4C03F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B703684-E9FB-4770-AF9A-9602D7F28619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A88701F-48B8-48DD-A9ED-04039DE5C8EC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5BE2713-F9F6-450F-978C-783D0D41C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0B49AD-B257-4A6C-BB01-9558268C3964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81A98A7-C510-4913-B386-18C0F3780ED2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803C37-6D45-4A3B-873E-DC412BCD0693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8A6AD26-EB7C-4837-B9FD-4E3F57B61E54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E566C2-B67C-497C-928C-47C14FFEF6A8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DCB4F81-3E4C-445B-A84D-2C3C611849A5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0611AFB-EBC9-4BE1-9A6B-EE7226E98B50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E0D162-9DD4-4305-9572-0311906AC964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7808BA-917A-41A3-B767-EFF2B6B5FBEB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D1E4A6-8990-4EFD-89C3-A7B95E1F426E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56C6A0-5674-4E9D-8276-D4FA42980EF7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0B9D0B-9F4C-49C0-9E5D-81D804DD9726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AC6F95-9E7B-4C43-92BD-F301ACDFAFFB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8200C0-B116-444E-BC1E-0C76E0603B4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2F127E-2324-4E91-9DCE-DD7900058289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7BF190-BF86-41EA-9CF1-AC8FAF043965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BE9193-CF2C-40F8-ACC5-F7145787B695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922118-2712-4612-83B5-7BC388452D17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082BB6-D017-45C1-B737-57DA01F4253C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9195E4-ACF7-4B13-BD26-6E97B72C68AE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FAAF11-FF3B-4059-B91F-0229C8514C1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4A261-C9CD-4BD7-85F9-E15FBADD68E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E892F-242C-4C39-8D91-BD9CA16C0DB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0C350-D71B-4AFB-A381-FECA6B6E33B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B311E-E849-4A0A-977F-7D6EB57A5F9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F2503-7E3C-4592-8446-977A7F5F8A0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CCB8F-6F38-4413-ACC5-C46478F670D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7CA3E-EBE0-4518-ABF9-62AA74C6C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2BD05-A21F-4704-B023-2D0B4C0726A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06979-13BB-4C7F-8FC8-4E1D7064844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F81E6-ABFA-4FF5-8061-34CDEF1672C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9FB9E-8C6D-4EC7-9236-069FF630AEB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F0CF8-105F-4BDD-8FFB-AB0BC83A42B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29.xml"/><Relationship Id="rId6" Type="http://schemas.openxmlformats.org/officeDocument/2006/relationships/slideLayout" Target="../slideLayouts/slideLayout530.xml"/><Relationship Id="rId7" Type="http://schemas.openxmlformats.org/officeDocument/2006/relationships/slideLayout" Target="../slideLayouts/slideLayout531.xml"/><Relationship Id="rId8" Type="http://schemas.openxmlformats.org/officeDocument/2006/relationships/slideLayout" Target="../slideLayouts/slideLayout532.xml"/><Relationship Id="rId9" Type="http://schemas.openxmlformats.org/officeDocument/2006/relationships/slideLayout" Target="../slideLayouts/slideLayout533.xml"/><Relationship Id="rId10" Type="http://schemas.openxmlformats.org/officeDocument/2006/relationships/slideLayout" Target="../slideLayouts/slideLayout534.xml"/><Relationship Id="rId11" Type="http://schemas.openxmlformats.org/officeDocument/2006/relationships/slideLayout" Target="../slideLayouts/slideLayout535.xml"/><Relationship Id="rId12" Type="http://schemas.openxmlformats.org/officeDocument/2006/relationships/slideLayout" Target="../slideLayouts/slideLayout536.xml"/><Relationship Id="rId13" Type="http://schemas.openxmlformats.org/officeDocument/2006/relationships/slideLayout" Target="../slideLayouts/slideLayout537.xml"/><Relationship Id="rId14" Type="http://schemas.openxmlformats.org/officeDocument/2006/relationships/slideLayout" Target="../slideLayouts/slideLayout538.xml"/><Relationship Id="rId15" Type="http://schemas.openxmlformats.org/officeDocument/2006/relationships/slideLayout" Target="../slideLayouts/slideLayout539.xml"/><Relationship Id="rId16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5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359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0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01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4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43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8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2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27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1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6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69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1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1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11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1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5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53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1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9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95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1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3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737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1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38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9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7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1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AB277-9EF8-42B8-82A0-D2C7F829B80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71AE4-19CA-4782-AD10-182A48475D1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EAE22-8E0E-4772-A9C6-C5DE37D2CA6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FEF5B-3478-4697-AF05-91079349A51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70D74-8D81-4C3F-A7B6-C477D957E19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EF4A3-6BAE-4D85-BE69-481225AB381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78765-8550-46EC-9238-4F50A784541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B7445-BE0D-44F5-BFF0-FAA29F780CD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C7FBF-4DD5-4DEA-A262-1899263B270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4150-48B1-4F80-B7EB-9E379C17C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2922D-33A6-40B5-A67A-AB350B536CF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DCB72-1043-4487-96BC-CAF96B0CE83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Image 6" descr=""/>
          <p:cNvPicPr/>
          <p:nvPr/>
        </p:nvPicPr>
        <p:blipFill>
          <a:blip r:embed="rId2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5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400" spc="-1" strike="noStrike">
                <a:solidFill>
                  <a:srgbClr val="2fa17c"/>
                </a:solidFill>
                <a:latin typeface="Microsoft PhagsP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313" name="PlaceHolder 1"/>
          <p:cNvSpPr>
            <a:spLocks noGrp="1"/>
          </p:cNvSpPr>
          <p:nvPr>
            <p:ph type="dt" idx="52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1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sldNum" idx="53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9FF46-A16C-4A88-A364-CFE916589AD8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39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31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5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7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473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5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1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15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dt" idx="5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57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5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9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99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5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4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41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5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8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83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6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2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25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6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6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67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 type="dt" idx="6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0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09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 type="dt" idx="6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5"/>
    <p:sldLayoutId id="2147484222" r:id="rId6"/>
    <p:sldLayoutId id="2147484223" r:id="rId7"/>
    <p:sldLayoutId id="2147484224" r:id="rId8"/>
    <p:sldLayoutId id="2147484225" r:id="rId9"/>
    <p:sldLayoutId id="2147484226" r:id="rId10"/>
    <p:sldLayoutId id="2147484227" r:id="rId11"/>
    <p:sldLayoutId id="2147484228" r:id="rId12"/>
    <p:sldLayoutId id="2147484229" r:id="rId13"/>
    <p:sldLayoutId id="2147484230" r:id="rId14"/>
    <p:sldLayoutId id="2147484231" r:id="rId15"/>
    <p:sldLayoutId id="2147484232" r:id="rId16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5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51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 type="dt" idx="6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9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6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933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934" name="Rectangle 5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5" name="Picture 2" descr="I:\DIRECTION_GENERALE\COMMUNICATION\COM INTERNE\REFORME_TERRITORIALE\Outils_enligne_intranet\modele_diaporama\img_ars.jpg"/>
          <p:cNvPicPr/>
          <p:nvPr/>
        </p:nvPicPr>
        <p:blipFill>
          <a:blip r:embed="rId4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 type="sldNum" idx="66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67D32-6EA3-42FA-B0F8-1C7BFF4C2946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1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dt" idx="4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33589-823C-4693-9BB2-201DE332DC84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27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17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csp/explore.cgi/avisrapportsdomaine?clefr=627" TargetMode="External"/><Relationship Id="rId2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COTRIM NOUVELLE-AQUITAINE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17 octobre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3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103320" y="0"/>
            <a:ext cx="2442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7" name="Picture 3" descr=""/>
          <p:cNvPicPr/>
          <p:nvPr/>
        </p:nvPicPr>
        <p:blipFill>
          <a:blip r:embed="rId1"/>
          <a:srcRect l="33437" t="31668" r="16815" b="25001"/>
          <a:stretch/>
        </p:blipFill>
        <p:spPr>
          <a:xfrm>
            <a:off x="3240000" y="4068720"/>
            <a:ext cx="4578480" cy="2243160"/>
          </a:xfrm>
          <a:prstGeom prst="rect">
            <a:avLst/>
          </a:prstGeom>
          <a:ln w="0">
            <a:noFill/>
          </a:ln>
        </p:spPr>
      </p:pic>
      <p:sp>
        <p:nvSpPr>
          <p:cNvPr id="2008" name=""/>
          <p:cNvSpPr txBox="1"/>
          <p:nvPr/>
        </p:nvSpPr>
        <p:spPr>
          <a:xfrm>
            <a:off x="468360" y="169992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PRS c’est </a:t>
            </a:r>
            <a:r>
              <a:rPr b="1" lang="fr-FR" sz="3200" spc="-1" strike="noStrike">
                <a:solidFill>
                  <a:srgbClr val="000000"/>
                </a:solidFill>
                <a:latin typeface="Microsoft PhagsP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Cadre d’orientation stratégique (CO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10 ans : 2018-202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Schéma régional de santé (SR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Programme régional d’accès à la prévention et soins (PRAP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 txBox="1"/>
          <p:nvPr/>
        </p:nvSpPr>
        <p:spPr>
          <a:xfrm>
            <a:off x="539640" y="22478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Ce qui change avec le PRS de 2</a:t>
            </a:r>
            <a:r>
              <a:rPr b="1" lang="fr-FR" sz="2700" spc="-1" strike="noStrike" baseline="30000">
                <a:solidFill>
                  <a:srgbClr val="000000"/>
                </a:solidFill>
                <a:latin typeface="Microsoft PhagsPa"/>
              </a:rPr>
              <a:t>ème</a:t>
            </a: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 génér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/>
          </p:nvPr>
        </p:nvSpPr>
        <p:spPr>
          <a:xfrm>
            <a:off x="611280" y="3068280"/>
            <a:ext cx="8424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COS plus prospectif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SRS uniqu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Alors que l’ancien PRS comportait 3 schémas (prévention, organisation des soins, organisation médico-socia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Construit autour d’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objectifs opérationnels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lisibles et évalu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24000" y="22050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icrosoft PhagsPa"/>
              </a:rPr>
              <a:t>L’élaboration du PRS Nouvelle-Aquitaine s’appuie s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/>
          </p:nvPr>
        </p:nvSpPr>
        <p:spPr>
          <a:xfrm>
            <a:off x="399600" y="2565360"/>
            <a:ext cx="842508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diagnostic régional</a:t>
            </a: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, décliné en 12 volets territoriau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(territoires de démocratie sanit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bilan des PRS des anciennes ré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Aquitaine, Limousin et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e évaluation du PRS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Rectangle à coins arrondis 5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Titre 1"/>
          <p:cNvSpPr/>
          <p:nvPr/>
        </p:nvSpPr>
        <p:spPr>
          <a:xfrm>
            <a:off x="395280" y="11592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</a:t>
            </a: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DÉMARCHE : ÉLABORATION</a:t>
            </a:r>
            <a:br>
              <a:rPr sz="15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0" name="Picture 2" descr=""/>
          <p:cNvPicPr/>
          <p:nvPr/>
        </p:nvPicPr>
        <p:blipFill>
          <a:blip r:embed="rId1"/>
          <a:stretch/>
        </p:blipFill>
        <p:spPr>
          <a:xfrm>
            <a:off x="6012000" y="5230800"/>
            <a:ext cx="1655640" cy="161784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2" descr=""/>
          <p:cNvPicPr/>
          <p:nvPr/>
        </p:nvPicPr>
        <p:blipFill>
          <a:blip r:embed="rId2"/>
          <a:stretch/>
        </p:blipFill>
        <p:spPr>
          <a:xfrm rot="467400">
            <a:off x="6746400" y="3472920"/>
            <a:ext cx="1190880" cy="16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 txBox="1"/>
          <p:nvPr/>
        </p:nvSpPr>
        <p:spPr>
          <a:xfrm>
            <a:off x="23976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cadre d’orientation stratégique (le C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S ORIENTATIONS STRATÉ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"/>
          <p:cNvSpPr/>
          <p:nvPr/>
        </p:nvSpPr>
        <p:spPr>
          <a:xfrm>
            <a:off x="3924360" y="2975040"/>
            <a:ext cx="3971880" cy="15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8080"/>
                </a:solidFill>
                <a:latin typeface="Calibri"/>
              </a:rPr>
              <a:t>Un objectif clé de voûte</a:t>
            </a:r>
            <a:r>
              <a:rPr b="1" i="1" lang="fr-FR" sz="1800" spc="-1" strike="noStrike">
                <a:solidFill>
                  <a:srgbClr val="9bbb59"/>
                </a:solidFill>
                <a:latin typeface="Calibri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mplifier la transformation du système de santé pour garantir la qualité des réponses aux besoins et l’accessibilité globale au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2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2665440" cy="132552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3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989080" cy="127332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4" descr=""/>
          <p:cNvPicPr/>
          <p:nvPr/>
        </p:nvPicPr>
        <p:blipFill>
          <a:blip r:embed="rId3"/>
          <a:stretch/>
        </p:blipFill>
        <p:spPr>
          <a:xfrm>
            <a:off x="324000" y="5187960"/>
            <a:ext cx="2679480" cy="1193760"/>
          </a:xfrm>
          <a:prstGeom prst="rect">
            <a:avLst/>
          </a:prstGeom>
          <a:ln w="0">
            <a:noFill/>
          </a:ln>
        </p:spPr>
      </p:pic>
      <p:pic>
        <p:nvPicPr>
          <p:cNvPr id="2029" name="Picture 5" descr=""/>
          <p:cNvPicPr/>
          <p:nvPr/>
        </p:nvPicPr>
        <p:blipFill>
          <a:blip r:embed="rId4"/>
          <a:stretch/>
        </p:blipFill>
        <p:spPr>
          <a:xfrm>
            <a:off x="3282840" y="5327640"/>
            <a:ext cx="2778120" cy="112572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6" descr=""/>
          <p:cNvPicPr/>
          <p:nvPr/>
        </p:nvPicPr>
        <p:blipFill>
          <a:blip r:embed="rId5"/>
          <a:stretch/>
        </p:blipFill>
        <p:spPr>
          <a:xfrm>
            <a:off x="6300720" y="5119560"/>
            <a:ext cx="2685960" cy="1211400"/>
          </a:xfrm>
          <a:prstGeom prst="rect">
            <a:avLst/>
          </a:prstGeom>
          <a:ln w="0">
            <a:noFill/>
          </a:ln>
        </p:spPr>
      </p:pic>
      <p:sp>
        <p:nvSpPr>
          <p:cNvPr id="2031" name="Rectangle 14"/>
          <p:cNvSpPr/>
          <p:nvPr/>
        </p:nvSpPr>
        <p:spPr>
          <a:xfrm>
            <a:off x="7172280" y="-27000"/>
            <a:ext cx="1944720" cy="17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/>
          </p:nvPr>
        </p:nvSpPr>
        <p:spPr>
          <a:xfrm>
            <a:off x="298440" y="176652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cinq orientations stratégiques du PRS NA …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éclinées en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résultats à atteindr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indicateurs traceur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politique régionale, dans le cadre de la démarche globale de suivi et d’évaluation du PRS NA</a:t>
            </a:r>
            <a:endParaRPr b="0" lang="en-US" sz="24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3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Les orientations stratégiqu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Méthode d’é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5" name="Picture 2" descr=""/>
          <p:cNvPicPr/>
          <p:nvPr/>
        </p:nvPicPr>
        <p:blipFill>
          <a:blip r:embed="rId1"/>
          <a:srcRect l="34063" t="44168" r="20079" b="45001"/>
          <a:stretch/>
        </p:blipFill>
        <p:spPr>
          <a:xfrm>
            <a:off x="768240" y="4896000"/>
            <a:ext cx="7485120" cy="995040"/>
          </a:xfrm>
          <a:prstGeom prst="rect">
            <a:avLst/>
          </a:prstGeom>
          <a:ln w="0">
            <a:noFill/>
          </a:ln>
        </p:spPr>
      </p:pic>
      <p:sp>
        <p:nvSpPr>
          <p:cNvPr id="2036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à coins arrondis 5"/>
          <p:cNvSpPr/>
          <p:nvPr/>
        </p:nvSpPr>
        <p:spPr>
          <a:xfrm>
            <a:off x="-452520" y="-68400"/>
            <a:ext cx="7416720" cy="15130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</a:t>
            </a:r>
            <a:br>
              <a:rPr sz="2800"/>
            </a:b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STRATÉGIE GLOBALE SUIVI ET ÉVALU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à coins arrondis 7"/>
          <p:cNvSpPr/>
          <p:nvPr/>
        </p:nvSpPr>
        <p:spPr>
          <a:xfrm>
            <a:off x="1782720" y="1863720"/>
            <a:ext cx="3630600" cy="29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ultats attendus à 5 et 1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à coins arrondis 9"/>
          <p:cNvSpPr/>
          <p:nvPr/>
        </p:nvSpPr>
        <p:spPr>
          <a:xfrm>
            <a:off x="2614680" y="2543040"/>
            <a:ext cx="1966680" cy="92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rientations stratég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à coins arrondis 40"/>
          <p:cNvSpPr/>
          <p:nvPr/>
        </p:nvSpPr>
        <p:spPr>
          <a:xfrm>
            <a:off x="2139840" y="4129200"/>
            <a:ext cx="2997360" cy="46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sultats  attendu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à coins arrondis 82"/>
          <p:cNvSpPr/>
          <p:nvPr/>
        </p:nvSpPr>
        <p:spPr>
          <a:xfrm>
            <a:off x="2511360" y="4865760"/>
            <a:ext cx="2254320" cy="338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à coins arrondis 84"/>
          <p:cNvSpPr/>
          <p:nvPr/>
        </p:nvSpPr>
        <p:spPr>
          <a:xfrm>
            <a:off x="2684520" y="5602320"/>
            <a:ext cx="1908000" cy="71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Modalités de mise en œuvre (Leviers, actions,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à coins arrondis 26"/>
          <p:cNvSpPr/>
          <p:nvPr/>
        </p:nvSpPr>
        <p:spPr>
          <a:xfrm>
            <a:off x="5867280" y="5140440"/>
            <a:ext cx="1378080" cy="85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proces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27"/>
          <p:cNvSpPr/>
          <p:nvPr/>
        </p:nvSpPr>
        <p:spPr>
          <a:xfrm>
            <a:off x="519120" y="234936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fa17c"/>
                </a:solidFill>
                <a:latin typeface="Calibri"/>
              </a:rPr>
              <a:t>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6" name="Connecteur droit avec flèche 45"/>
          <p:cNvCxnSpPr/>
          <p:nvPr/>
        </p:nvCxnSpPr>
        <p:spPr>
          <a:xfrm flipH="1">
            <a:off x="5044320" y="5256000"/>
            <a:ext cx="5547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047" name="Flèche droite 4"/>
          <p:cNvSpPr/>
          <p:nvPr/>
        </p:nvSpPr>
        <p:spPr>
          <a:xfrm rot="16200000">
            <a:off x="3483000" y="5029200"/>
            <a:ext cx="311040" cy="76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13"/>
          <p:cNvSpPr/>
          <p:nvPr/>
        </p:nvSpPr>
        <p:spPr>
          <a:xfrm>
            <a:off x="636480" y="4645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Calibri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Flèche droite 49"/>
          <p:cNvSpPr/>
          <p:nvPr/>
        </p:nvSpPr>
        <p:spPr>
          <a:xfrm rot="16200000">
            <a:off x="3391560" y="3369240"/>
            <a:ext cx="395280" cy="765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Connecteur droit 15"/>
          <p:cNvSpPr/>
          <p:nvPr/>
        </p:nvSpPr>
        <p:spPr>
          <a:xfrm flipV="1">
            <a:off x="3638520" y="4590720"/>
            <a:ext cx="0" cy="2746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Connecteur droit 56"/>
          <p:cNvSpPr/>
          <p:nvPr/>
        </p:nvSpPr>
        <p:spPr>
          <a:xfrm flipV="1">
            <a:off x="3598920" y="2155680"/>
            <a:ext cx="0" cy="387360"/>
          </a:xfrm>
          <a:prstGeom prst="line">
            <a:avLst/>
          </a:prstGeom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à coins arrondis 65"/>
          <p:cNvSpPr/>
          <p:nvPr/>
        </p:nvSpPr>
        <p:spPr>
          <a:xfrm>
            <a:off x="6156360" y="1889280"/>
            <a:ext cx="1233360" cy="98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rac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à coins arrondis 67"/>
          <p:cNvSpPr/>
          <p:nvPr/>
        </p:nvSpPr>
        <p:spPr>
          <a:xfrm>
            <a:off x="5867280" y="3900600"/>
            <a:ext cx="161316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4" name="Connecteur droit avec flèche 118"/>
          <p:cNvCxnSpPr/>
          <p:nvPr/>
        </p:nvCxnSpPr>
        <p:spPr>
          <a:xfrm flipH="1">
            <a:off x="5017320" y="2531880"/>
            <a:ext cx="996120" cy="1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cxnSp>
        <p:nvCxnSpPr>
          <p:cNvPr id="2055" name="Connecteur droit avec flèche 124"/>
          <p:cNvCxnSpPr/>
          <p:nvPr/>
        </p:nvCxnSpPr>
        <p:spPr>
          <a:xfrm flipH="1">
            <a:off x="5320800" y="4360680"/>
            <a:ext cx="38808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56" name="Connecteur droit avec flèche 125"/>
          <p:cNvCxnSpPr/>
          <p:nvPr/>
        </p:nvCxnSpPr>
        <p:spPr>
          <a:xfrm flipV="1">
            <a:off x="6536880" y="3068280"/>
            <a:ext cx="1080" cy="550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sp>
        <p:nvSpPr>
          <p:cNvPr id="2057" name="Accolade fermante 12"/>
          <p:cNvSpPr/>
          <p:nvPr/>
        </p:nvSpPr>
        <p:spPr>
          <a:xfrm>
            <a:off x="7680240" y="3705120"/>
            <a:ext cx="216000" cy="23432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2343240"/>
              <a:gd name="textAreaBottom" fmla="*/ 2337840 h 23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16200" y="10800"/>
                  <a:pt x="21600" y="10800"/>
                </a:cubicBezTo>
                <a:cubicBezTo>
                  <a:pt x="162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Accolade fermante 28"/>
          <p:cNvSpPr/>
          <p:nvPr/>
        </p:nvSpPr>
        <p:spPr>
          <a:xfrm>
            <a:off x="7581960" y="1879560"/>
            <a:ext cx="217440" cy="1266840"/>
          </a:xfrm>
          <a:custGeom>
            <a:avLst/>
            <a:gdLst>
              <a:gd name="textAreaLeft" fmla="*/ 0 w 217440"/>
              <a:gd name="textAreaRight" fmla="*/ 78480 w 217440"/>
              <a:gd name="textAreaTop" fmla="*/ 5400 h 1266840"/>
              <a:gd name="textAreaBottom" fmla="*/ 126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16200" y="10800"/>
                  <a:pt x="21600" y="10800"/>
                </a:cubicBezTo>
                <a:cubicBezTo>
                  <a:pt x="162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ZoneTexte 14"/>
          <p:cNvSpPr/>
          <p:nvPr/>
        </p:nvSpPr>
        <p:spPr>
          <a:xfrm>
            <a:off x="7896240" y="234936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É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ZoneTexte 30"/>
          <p:cNvSpPr/>
          <p:nvPr/>
        </p:nvSpPr>
        <p:spPr>
          <a:xfrm>
            <a:off x="8147160" y="470052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1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mplifier les actions sur les déterminants de santé et la promotion de la santé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Diminution de l’obésité et du surpoids dans la population de Nouvelle-Aquitaine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s :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Part des enfants obèses et en surcharge pondérale en classe de 6ème en Nouvelle-Aquitaine.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2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Promouvoir un accès équitable à la santé sur les territoires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Diminution de la mortalité prématurée évitable  au niveau de la région et de ses départements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  <a:ea typeface="Arial"/>
              </a:rPr>
              <a:t>►</a:t>
            </a: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Taux de mortalité prématuré évitable par les actions de prévention</a:t>
            </a:r>
            <a:r>
              <a:rPr b="0" lang="fr-FR" sz="1800" spc="-1" strike="noStrike">
                <a:solidFill>
                  <a:srgbClr val="1f497d"/>
                </a:solidFill>
                <a:latin typeface="Microsoft PhagsPa"/>
              </a:rPr>
              <a:t> 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7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à coins arrondis 7"/>
          <p:cNvSpPr/>
          <p:nvPr/>
        </p:nvSpPr>
        <p:spPr>
          <a:xfrm>
            <a:off x="-455760" y="-27000"/>
            <a:ext cx="7417080" cy="1511280"/>
          </a:xfrm>
          <a:prstGeom prst="roundRect">
            <a:avLst>
              <a:gd name="adj" fmla="val 16667"/>
            </a:avLst>
          </a:prstGeom>
          <a:solidFill>
            <a:srgbClr val="2fa17c"/>
          </a:solidFill>
          <a:ln w="25560">
            <a:solidFill>
              <a:srgbClr val="31b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1- SNS ET 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"/>
          <p:cNvSpPr/>
          <p:nvPr/>
        </p:nvSpPr>
        <p:spPr>
          <a:xfrm>
            <a:off x="395280" y="175104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SNS : 4 prior</a:t>
            </a:r>
            <a:r>
              <a:rPr b="0" lang="fr-FR" sz="2800" spc="-1" strike="noStrike">
                <a:solidFill>
                  <a:srgbClr val="008080"/>
                </a:solidFill>
                <a:latin typeface="Calibri"/>
              </a:rPr>
              <a:t>i</a:t>
            </a: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tés déjà déclinées au sein du projet de P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4"/>
          <p:cNvSpPr/>
          <p:nvPr/>
        </p:nvSpPr>
        <p:spPr>
          <a:xfrm>
            <a:off x="395280" y="2760840"/>
            <a:ext cx="707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prévention et la promotion de la santé, tout au long de la vie et dans tous les mil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lutte contre les inégalités sociales et territoriales d’accès à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nécessité d’accroître la pertinence et la qualité des 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’innovation organisationnelle, médicale, technologique ou numérique mise au service de tous et répondre aux besoins prioritaires en sant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à coins arrondis 9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’INTÉGRATION DE LA STRATÉ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ATIONAL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7" name="Groupe 15"/>
          <p:cNvGrpSpPr/>
          <p:nvPr/>
        </p:nvGrpSpPr>
        <p:grpSpPr>
          <a:xfrm>
            <a:off x="6716880" y="3825720"/>
            <a:ext cx="1498320" cy="1900440"/>
            <a:chOff x="6716880" y="3825720"/>
            <a:chExt cx="1498320" cy="1900440"/>
          </a:xfrm>
        </p:grpSpPr>
        <p:pic>
          <p:nvPicPr>
            <p:cNvPr id="2078" name="Picture 4" descr=""/>
            <p:cNvPicPr/>
            <p:nvPr/>
          </p:nvPicPr>
          <p:blipFill>
            <a:blip r:embed="rId1"/>
            <a:srcRect l="34069" t="10031" r="32970" b="6945"/>
            <a:stretch/>
          </p:blipFill>
          <p:spPr>
            <a:xfrm>
              <a:off x="6868080" y="3825720"/>
              <a:ext cx="1156320" cy="19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9" name="Rectangle 14" descr=""/>
            <p:cNvPicPr/>
            <p:nvPr/>
          </p:nvPicPr>
          <p:blipFill>
            <a:blip r:embed="rId2"/>
            <a:stretch/>
          </p:blipFill>
          <p:spPr>
            <a:xfrm>
              <a:off x="6716880" y="4205880"/>
              <a:ext cx="1498320" cy="147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0" name="Titre 1"/>
          <p:cNvGrpSpPr/>
          <p:nvPr/>
        </p:nvGrpSpPr>
        <p:grpSpPr>
          <a:xfrm>
            <a:off x="-781200" y="-49320"/>
            <a:ext cx="7688520" cy="1994040"/>
            <a:chOff x="-781200" y="-49320"/>
            <a:chExt cx="7688520" cy="1994040"/>
          </a:xfrm>
        </p:grpSpPr>
        <p:pic>
          <p:nvPicPr>
            <p:cNvPr id="2081" name="Titre 1" descr=""/>
            <p:cNvPicPr/>
            <p:nvPr/>
          </p:nvPicPr>
          <p:blipFill>
            <a:blip r:embed="rId3"/>
            <a:stretch/>
          </p:blipFill>
          <p:spPr>
            <a:xfrm>
              <a:off x="-781200" y="-49320"/>
              <a:ext cx="76885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2" name=""/>
            <p:cNvSpPr/>
            <p:nvPr/>
          </p:nvSpPr>
          <p:spPr>
            <a:xfrm>
              <a:off x="-662040" y="68400"/>
              <a:ext cx="7443720" cy="17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7172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076400"/>
                  <a:tab algn="l" pos="2152800"/>
                  <a:tab algn="l" pos="3228840"/>
                  <a:tab algn="l" pos="4305240"/>
                  <a:tab algn="l" pos="5381640"/>
                  <a:tab algn="l" pos="6458040"/>
                  <a:tab algn="l" pos="7534440"/>
                  <a:tab algn="l" pos="8610480"/>
                  <a:tab algn="l" pos="9686880"/>
                  <a:tab algn="l" pos="10763280"/>
                </a:tabLst>
              </a:pP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	</a:t>
              </a: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LE </a:t>
              </a:r>
              <a:r>
                <a:rPr b="1" lang="fr-FR" sz="3200" spc="-1" strike="noStrike">
                  <a:solidFill>
                    <a:srgbClr val="ffffff"/>
                  </a:solidFill>
                  <a:latin typeface="Microsoft PhagsPa"/>
                </a:rPr>
                <a:t>SCHÉMA RÉGIONAL DE SANTÉ : ETAT D’AVANCE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ZoneTexte 2"/>
          <p:cNvSpPr/>
          <p:nvPr/>
        </p:nvSpPr>
        <p:spPr>
          <a:xfrm>
            <a:off x="250920" y="2173320"/>
            <a:ext cx="82818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Des productions thématiques issues de la concer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Flèche droite 4"/>
          <p:cNvSpPr/>
          <p:nvPr/>
        </p:nvSpPr>
        <p:spPr>
          <a:xfrm>
            <a:off x="176364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Flèche droite 5"/>
          <p:cNvSpPr/>
          <p:nvPr/>
        </p:nvSpPr>
        <p:spPr>
          <a:xfrm>
            <a:off x="392112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ZoneTexte 7"/>
          <p:cNvSpPr/>
          <p:nvPr/>
        </p:nvSpPr>
        <p:spPr>
          <a:xfrm>
            <a:off x="250920" y="3322800"/>
            <a:ext cx="15127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31 groupes de travail / 94 réunions  / 165 parten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ZoneTexte 8"/>
          <p:cNvSpPr/>
          <p:nvPr/>
        </p:nvSpPr>
        <p:spPr>
          <a:xfrm>
            <a:off x="2365200" y="3335400"/>
            <a:ext cx="15559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Relecture, modification, restructuration des 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ZoneTexte 9"/>
          <p:cNvSpPr/>
          <p:nvPr/>
        </p:nvSpPr>
        <p:spPr>
          <a:xfrm>
            <a:off x="4643280" y="3336840"/>
            <a:ext cx="14335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Document  de travail interméd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5 axes (OS) - 25 thè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ZoneTexte 10"/>
          <p:cNvSpPr/>
          <p:nvPr/>
        </p:nvSpPr>
        <p:spPr>
          <a:xfrm>
            <a:off x="6443640" y="3336840"/>
            <a:ext cx="1771560" cy="3070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97d"/>
                </a:solidFill>
                <a:latin typeface="Calibri"/>
              </a:rPr>
              <a:t>Projet de 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lèche droite 11"/>
          <p:cNvSpPr/>
          <p:nvPr/>
        </p:nvSpPr>
        <p:spPr>
          <a:xfrm>
            <a:off x="6076800" y="424008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Ellipse 16"/>
          <p:cNvSpPr/>
          <p:nvPr/>
        </p:nvSpPr>
        <p:spPr>
          <a:xfrm>
            <a:off x="5772240" y="3206880"/>
            <a:ext cx="2336760" cy="2303280"/>
          </a:xfrm>
          <a:prstGeom prst="ellipse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AB692-B467-4049-B7FD-37AA44AED1F7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6" name=""/>
          <p:cNvGraphicFramePr/>
          <p:nvPr/>
        </p:nvGraphicFramePr>
        <p:xfrm>
          <a:off x="1122480" y="777960"/>
          <a:ext cx="6980040" cy="6114960"/>
        </p:xfrm>
        <a:graphic>
          <a:graphicData uri="http://schemas.openxmlformats.org/drawingml/2006/table">
            <a:tbl>
              <a:tblPr/>
              <a:tblGrid>
                <a:gridCol w="6980040"/>
              </a:tblGrid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1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ATÉGIE NATIONALE DE SANTÉ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- DR VÉRONIQUE GILLERON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1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2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PPEL A PROJET ARS ANNUEL POUR DÉVELOPPER LES ACTIONS DE PRÉVENTION HORS LES MURS PAR LES ÉTABLISSEMENTS DE SAN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hristophe CAILLIEREZ (DIRECTION DE LA SANTÉ PUBLIQUE – ARS N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3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JET RÉGIONAL DE SANTÉ NOUVELLE-AQUITAINE : SON ACTUAL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ISABELLE JAM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212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4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ES CONTRÔLES T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MPAGNE DE CONTRÔLE 2017 – 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ÉSENTATION DE L’ÉTUDE CRIMA – DR ELISABETH CAPDENAT-RAYMO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MODALITÉS DE CONTRÔLES – DR  VÉRONIQUE GILLE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2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5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OINT SUR LES GROUPES DE TRAVAIL DU COTR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6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FIDENTIALITÉ DES DONNÉES : RAPPEL DE LA RÉG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PAUL CHA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816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7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CTUALITÉ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AMDA, ENC, EMOIS-ADELF, JOURNÉES DU GRAND SUD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ATES DES PROCHAINES REUNIONS PLENIERES DU COTRIM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               </a:t>
            </a: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PRS Nouvelle-Aquita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          </a:t>
            </a: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 Calend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4" name=""/>
          <p:cNvGraphicFramePr/>
          <p:nvPr/>
        </p:nvGraphicFramePr>
        <p:xfrm>
          <a:off x="826920" y="2924280"/>
          <a:ext cx="7091640" cy="2131920"/>
        </p:xfrm>
        <a:graphic>
          <a:graphicData uri="http://schemas.openxmlformats.org/drawingml/2006/table">
            <a:tbl>
              <a:tblPr/>
              <a:tblGrid>
                <a:gridCol w="2376720"/>
                <a:gridCol w="471492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. – 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rsuite relecture / mise en for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s de travail intermédiaires P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1 avant intégration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.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2 intégrant les orientations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. – Avril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tion lég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ustement PRS et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5" name="Rectangle 1"/>
          <p:cNvSpPr/>
          <p:nvPr/>
        </p:nvSpPr>
        <p:spPr>
          <a:xfrm>
            <a:off x="409680" y="1773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Calendrier amendé d’élaboration du PRS Nouvelle-Aquit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Espace réservé de la date 2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17400" y="2943000"/>
            <a:ext cx="75693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LES CONTRÔLES T2A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32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65923-FBB6-4DB0-97E9-FB8B895615C2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6840" y="1312560"/>
            <a:ext cx="83329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thèmes retenus au plan régional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actes et consultations externes facturés en hospitalisation de jour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séjours avec comorbidités pour lesquels le ciblage s’est orienté sur le niveau de sévérité 3 et 4 (voire 2) (thème sanctionnable)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 codage du D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ériode contrôlée : du 1</a:t>
            </a:r>
            <a:r>
              <a:rPr b="0" lang="fr-FR" sz="2800" spc="-1" strike="noStrike" baseline="30000">
                <a:solidFill>
                  <a:srgbClr val="000066"/>
                </a:solidFill>
                <a:latin typeface="Calibri"/>
              </a:rPr>
              <a:t>er</a:t>
            </a: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 mars au 31 décembre 2016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1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C28A0-90E9-43AC-B86C-A88D18A64EE9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252360" y="1312560"/>
            <a:ext cx="80200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17 établissements contrôlés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: 1 clinique privée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Maritim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rrèze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Gironde : 3 cliniques privées, 1 ESPIC, 1 CLCC,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ot et Garonn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yrénées Atlantiques : 1 CH, 3 cliniques privé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ux Sèvres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55D72-0D79-4743-B0C4-9FB8BD5657E5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312840" y="2433600"/>
            <a:ext cx="78897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POINT SUR LES GROUPES DE TRAVAIL</a:t>
            </a:r>
            <a:br>
              <a:rPr sz="39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25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FDEEC-6E2E-4C36-BE09-81994980592E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Microsoft PhagsPa"/>
              </a:rPr>
              <a:t>GROUPES DE TRAVAIL COTRIM NA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6840" y="1564920"/>
            <a:ext cx="78152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principes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Objectif : travailler sur la qualité des données et sur l’analyse du champ en fonction des thématiques défini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4 groupes, 1 par cham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2 dates « bloquées »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16 novembre et 7 décembre de 8 à 18h salle 353 (capacité 16p)  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Groupe psychiatrie 18 octobre et 22 novembre 2017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9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12062-CC22-48A6-AA65-4D340FAFAA7F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M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0B278-1382-4285-9867-1FB5F5DF8D0F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3" name=""/>
          <p:cNvGraphicFramePr/>
          <p:nvPr/>
        </p:nvGraphicFramePr>
        <p:xfrm>
          <a:off x="590400" y="2697120"/>
          <a:ext cx="7583760" cy="2475000"/>
        </p:xfrm>
        <a:graphic>
          <a:graphicData uri="http://schemas.openxmlformats.org/drawingml/2006/table">
            <a:tbl>
              <a:tblPr/>
              <a:tblGrid>
                <a:gridCol w="3289320"/>
                <a:gridCol w="429444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BERGEAL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Denis REVIRON - Cliniques NAVARRE - MARZET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Anne Marie RULLION PAC SOO  - CH AGEN-NERAC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etab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10806-EA53-4645-B889-443467E9CB6B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7" name=""/>
          <p:cNvGraphicFramePr/>
          <p:nvPr/>
        </p:nvGraphicFramePr>
        <p:xfrm>
          <a:off x="609480" y="2549520"/>
          <a:ext cx="7810560" cy="2128680"/>
        </p:xfrm>
        <a:graphic>
          <a:graphicData uri="http://schemas.openxmlformats.org/drawingml/2006/table">
            <a:tbl>
              <a:tblPr/>
              <a:tblGrid>
                <a:gridCol w="3630600"/>
                <a:gridCol w="4179960"/>
              </a:tblGrid>
              <a:tr h="5616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 BERGEAL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 row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Nathalie CABON-ASENCIO – DIM MSP Bagatelle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SS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B5F3F-AF63-42D2-A0B4-1D2EDFE4BBF0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1" name=""/>
          <p:cNvGraphicFramePr/>
          <p:nvPr/>
        </p:nvGraphicFramePr>
        <p:xfrm>
          <a:off x="569880" y="2697120"/>
          <a:ext cx="8029440" cy="1847880"/>
        </p:xfrm>
        <a:graphic>
          <a:graphicData uri="http://schemas.openxmlformats.org/drawingml/2006/table">
            <a:tbl>
              <a:tblPr/>
              <a:tblGrid>
                <a:gridCol w="3343320"/>
                <a:gridCol w="468612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39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Béatrice JANVOIE-OUILLET  - GH LA ROCHELLE RE-AUNIS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étab.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-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PSYCHIA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53436-9FD4-4DD4-97DC-097CFC5385A7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5" name=""/>
          <p:cNvGraphicFramePr/>
          <p:nvPr/>
        </p:nvGraphicFramePr>
        <p:xfrm>
          <a:off x="517680" y="2124000"/>
          <a:ext cx="7792920" cy="3176640"/>
        </p:xfrm>
        <a:graphic>
          <a:graphicData uri="http://schemas.openxmlformats.org/drawingml/2006/table">
            <a:tbl>
              <a:tblPr/>
              <a:tblGrid>
                <a:gridCol w="3665520"/>
                <a:gridCol w="4127400"/>
              </a:tblGrid>
              <a:tr h="531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 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orinne FREIMANN - CH LA CANDELIE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nédicte SOULA - CH des PYRENEES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ranck CHALARD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LANGLOIS-GEY 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ul FORCET  - CH CAMILLE  CLAUDEL (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Roland BOUET - CH Henri LABORI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Isabelle BLANCHARD - CH COTE BASQUE SUD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antal BERGEY - CH CHARLES PERRENS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ristine BOUVIER - ASSOCIATION RENOVATION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rénice BRECHAT-HUET -  CH de CADILLAC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6" name="Tableau 12" descr=""/>
          <p:cNvPicPr/>
          <p:nvPr/>
        </p:nvPicPr>
        <p:blipFill>
          <a:blip r:embed="rId1"/>
          <a:stretch/>
        </p:blipFill>
        <p:spPr>
          <a:xfrm>
            <a:off x="4187880" y="3333600"/>
            <a:ext cx="768240" cy="1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7" name="Objet 13"/>
          <p:cNvGraphicFramePr/>
          <p:nvPr/>
        </p:nvGraphicFramePr>
        <p:xfrm>
          <a:off x="517680" y="5753160"/>
          <a:ext cx="4330440" cy="1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8" name="Obje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680" y="5753160"/>
                    <a:ext cx="4330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Stratégie nationale de santé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et bases de données médicales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Véronique GILLER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8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0" y="0"/>
            <a:ext cx="2443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Nationale de San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 principe d'une stratégie nationale de santé a été posé à l'article 1er de la loi du 26 janvier 2016 de "modernisation de notre système de santé", et son élaboration encadrée par un décret publié fin novembre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s domaines d’action prioritaires et des objectifs d’amélioration de la santé et de la protection sociale contre la mala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872B3-CA2F-474D-BEF1-4E8992EA0A28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Saisine Haut Conseil Santé Publi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31360" y="1312560"/>
            <a:ext cx="81550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aisine du 17 mai 20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le Secrétariat général des ministères chargés des affaires sociales (SGMCAS) et la Direction générale de la santé (DGS) ont sollicité l’avis HCSP sur la stratégie nationale de santé (SN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Conférence de presse ministre le 18 septemb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ublication des travaux sur le site HCS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csp.fr/explore.cgi/avisrapportsdomaine?clefr=6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hase de concertation avant publication des textes offici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tratégie nationale de santé sera déclinée en région dans le cadre de projets territoriaux 1</a:t>
            </a:r>
            <a:r>
              <a:rPr b="0" lang="fr-FR" sz="2700" spc="-1" strike="noStrike" baseline="30000">
                <a:solidFill>
                  <a:srgbClr val="00808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 semestre 20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1D0BF-E718-4657-9907-666E6DA39F75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révention et promotion de la santé : axe essentiel de la S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000" spc="-1" strike="noStrike">
                <a:solidFill>
                  <a:srgbClr val="008080"/>
                </a:solidFill>
                <a:latin typeface="Calibri"/>
              </a:rPr>
              <a:t>Sept principaux objectif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alimentation saine et activité physiq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maladies infectie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Lutte contre les conduites addi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e la santé ment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’un environnement et de conditions de travail favorables à la sant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Amélioration du dépis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de perte d’autonom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Espace réservé du numéro de diapositive 5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878BF-115C-4F25-AF7C-D97F21AACE9E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d’action pour une S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360360" y="131292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Mise en œuv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ilotage par indica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Renforcement de l’accès aux données et des    systèmes d’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 pilotage stratégique et opérati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e évaluation de la S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Plan national de santé publ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08400" indent="-32436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hérence des objectifs et des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A6A98-644D-4D37-8B55-0FFD0CD026E3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rt 35 projet PLF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312920"/>
            <a:ext cx="8083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Cadre des expérimentations pour de nouvelles organisations (innovation organisationnel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Emergence de nouvelles organisations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. concourant à l’amélioration de la prise en charge et du parcours patient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« décloisonner la prise en charge des patients pour une séquence de soin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43D3D-B134-4231-ABBC-8F7D59EA0406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4" name="Titre 1"/>
          <p:cNvGrpSpPr/>
          <p:nvPr/>
        </p:nvGrpSpPr>
        <p:grpSpPr>
          <a:xfrm>
            <a:off x="-633240" y="450720"/>
            <a:ext cx="7394400" cy="5023080"/>
            <a:chOff x="-633240" y="450720"/>
            <a:chExt cx="7394400" cy="5023080"/>
          </a:xfrm>
        </p:grpSpPr>
        <p:pic>
          <p:nvPicPr>
            <p:cNvPr id="2005" name="Titre 1" descr=""/>
            <p:cNvPicPr/>
            <p:nvPr/>
          </p:nvPicPr>
          <p:blipFill>
            <a:blip r:embed="rId1"/>
            <a:stretch/>
          </p:blipFill>
          <p:spPr>
            <a:xfrm>
              <a:off x="-633240" y="450720"/>
              <a:ext cx="739440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-369720" y="719280"/>
              <a:ext cx="68594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2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PROJET RÉGIONAL DE SANTÉ NOUVELLE-AQUITAINE</a:t>
              </a:r>
              <a:br>
                <a:rPr sz="43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SON ACTUALITÉ</a:t>
              </a:r>
              <a:br>
                <a:rPr sz="3600"/>
              </a:br>
              <a:br>
                <a:rPr sz="3600"/>
              </a:br>
              <a:r>
                <a:rPr b="1" lang="fr-FR" sz="2500" spc="-1" strike="noStrike">
                  <a:solidFill>
                    <a:srgbClr val="ffffff"/>
                  </a:solidFill>
                  <a:latin typeface="Microsoft PhagsPa"/>
                </a:rPr>
                <a:t>DR ISABELLE JAMET</a:t>
              </a:r>
              <a:br>
                <a:rPr sz="3600"/>
              </a:br>
              <a:br>
                <a:rPr sz="3600"/>
              </a:b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8:27:43Z</dcterms:created>
  <dc:creator>delusk</dc:creator>
  <dc:description/>
  <dc:language>en-US</dc:language>
  <cp:lastModifiedBy>Isabelle Jamet</cp:lastModifiedBy>
  <cp:lastPrinted>2017-10-17T10:33:24Z</cp:lastPrinted>
  <dcterms:modified xsi:type="dcterms:W3CDTF">2017-10-17T10:34:04Z</dcterms:modified>
  <cp:revision>58</cp:revision>
  <dc:subject/>
  <dc:title>Diapositive 1</dc:title>
</cp:coreProperties>
</file>